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E4C-05D4-4069-A113-013D862A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CDB-C247-4618-91A3-811D2F40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339-1A4E-41B0-9E4F-458BA557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0F2-4B1E-4EEE-9F81-CB379F85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834-C358-4246-B926-408502B3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A4C-D2AD-449A-B0E8-A7355546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02F-CE2F-441D-9707-DE09DE10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D8F-7128-4548-9381-1AEE43F3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479-700E-4DBE-8881-296B779B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C9B-8D57-4454-A616-ECFD5D18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B93-513A-4CE7-A4A3-AC328387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5E6-5ECB-421C-9683-875D12D4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36F2-0C2F-4715-98A1-766D4EE5C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5280" y="4437000"/>
            <a:ext cx="550872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ffffff"/>
                </a:solidFill>
                <a:latin typeface="Arial"/>
              </a:rPr>
              <a:t>Gambling</a:t>
            </a:r>
            <a:r>
              <a:rPr b="0" lang="en-NZ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19200" y="5921280"/>
            <a:ext cx="4024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Elliot C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17640"/>
            <a:ext cx="51991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03:59:23Z</dcterms:created>
  <dc:creator>Sami&amp;Ell</dc:creator>
  <dc:description/>
  <dc:language>en-US</dc:language>
  <cp:lastModifiedBy>Sami&amp;Ell</cp:lastModifiedBy>
  <dcterms:modified xsi:type="dcterms:W3CDTF">2008-07-24T04:33:22Z</dcterms:modified>
  <cp:revision>2</cp:revision>
  <dc:subject/>
  <dc:title>Gambling </dc:title>
</cp:coreProperties>
</file>